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7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34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3.png" ContentType="image/png"/>
  <Override PartName="/ppt/media/image9.png" ContentType="image/png"/>
  <Override PartName="/ppt/media/image30.jpeg" ContentType="image/jpeg"/>
  <Override PartName="/ppt/media/image3.jpeg" ContentType="image/jpeg"/>
  <Override PartName="/ppt/media/image31.png" ContentType="image/png"/>
  <Override PartName="/ppt/media/image6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10.png" ContentType="image/png"/>
  <Override PartName="/ppt/media/image1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26.png" ContentType="image/png"/>
  <Override PartName="/ppt/media/image33.gif" ContentType="image/gif"/>
  <Override PartName="/ppt/media/image18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D9C3-1084-4BAF-9DF5-8C3DB6799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S Lib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ography of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S Lib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frican Plate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frican Plate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er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l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l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000 mil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000 mil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ismic Activity in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ismic Activity in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Tropical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ncer 20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or 0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Tropical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ncer 20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or 0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Trade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frican Trade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Africa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of our Hurric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Africa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of our Hurric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getation Z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getation Z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frican Savannah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million sq. m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frican Savannah: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 million sq. m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Rain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 rainfall of up to 17 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composition (very humi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37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% of the land surface of Af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Rain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 rainfall of up to 17 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composition (very humi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37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% of the land surface of Af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ilimanjaro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ow on the Equa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ilimanjaro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ow on the Equa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l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ger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pop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ncer 20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or 0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l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ger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ang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mpop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ia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opic of Cancer 20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quator 0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tural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’s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largest continent  11,700,000 sq. m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% of the world’s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½ times the size of the U. 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6 0 0    M I L E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’s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largest continent  11,700,000 sq. m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% of the world’s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½ times the size of the U. 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6 0 0    M I L E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l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ger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pop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l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ger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ang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mpop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ian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ghty Nile Rive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Longest River in the Worl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ghty Nile Rive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Longest River in the Worl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go River Ba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12% of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s ov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720 mil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9% of the count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Zaire is in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o River bas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go River Ba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12% of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s ov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720 mil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9% of the count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Zaire is in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o River bas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iger River Ba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7.5% of the con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s over 10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600 mil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iger River Ba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7.5% of the con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s over 10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600 mil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electric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electric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giraffe"/>
          <p:cNvPicPr/>
          <p:nvPr/>
        </p:nvPicPr>
        <p:blipFill>
          <a:blip r:embed="rId1"/>
          <a:srcRect l="0" t="0" r="0" b="3282"/>
          <a:stretch/>
        </p:blipFill>
        <p:spPr>
          <a:xfrm>
            <a:off x="3505320" y="1066680"/>
            <a:ext cx="3276360" cy="4496040"/>
          </a:xfrm>
          <a:prstGeom prst="rect">
            <a:avLst/>
          </a:prstGeom>
          <a:ln w="0">
            <a:noFill/>
          </a:ln>
          <a:effectLst>
            <a:outerShdw dist="52300" dir="17036436" blurRad="0" rotWithShape="0">
              <a:srgbClr val="808080"/>
            </a:outerShdw>
          </a:effectLst>
        </p:spPr>
      </p:pic>
      <p:pic>
        <p:nvPicPr>
          <p:cNvPr id="44" name="Picture 7" descr="lioncubs"/>
          <p:cNvPicPr/>
          <p:nvPr/>
        </p:nvPicPr>
        <p:blipFill>
          <a:blip r:embed="rId2"/>
          <a:stretch/>
        </p:blipFill>
        <p:spPr>
          <a:xfrm>
            <a:off x="324000" y="152280"/>
            <a:ext cx="3333600" cy="2371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lion"/>
          <p:cNvPicPr/>
          <p:nvPr/>
        </p:nvPicPr>
        <p:blipFill>
          <a:blip r:embed="rId3">
            <a:lum bright="-12000"/>
          </a:blip>
          <a:srcRect l="4387" t="0" r="0" b="0"/>
          <a:stretch/>
        </p:blipFill>
        <p:spPr>
          <a:xfrm>
            <a:off x="7088040" y="3657600"/>
            <a:ext cx="1827360" cy="2790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elephants"/>
          <p:cNvPicPr/>
          <p:nvPr/>
        </p:nvPicPr>
        <p:blipFill>
          <a:blip r:embed="rId4"/>
          <a:stretch/>
        </p:blipFill>
        <p:spPr>
          <a:xfrm>
            <a:off x="457200" y="243828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zebra"/>
          <p:cNvPicPr/>
          <p:nvPr/>
        </p:nvPicPr>
        <p:blipFill>
          <a:blip r:embed="rId5"/>
          <a:stretch/>
        </p:blipFill>
        <p:spPr>
          <a:xfrm>
            <a:off x="1552680" y="4495680"/>
            <a:ext cx="1571400" cy="1714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baboon2"/>
          <p:cNvPicPr/>
          <p:nvPr/>
        </p:nvPicPr>
        <p:blipFill>
          <a:blip r:embed="rId6"/>
          <a:stretch/>
        </p:blipFill>
        <p:spPr>
          <a:xfrm>
            <a:off x="6095880" y="380880"/>
            <a:ext cx="2820960" cy="3038760"/>
          </a:xfrm>
          <a:prstGeom prst="rect">
            <a:avLst/>
          </a:prstGeom>
          <a:ln w="0">
            <a:noFill/>
          </a:ln>
        </p:spPr>
      </p:pic>
      <p:sp>
        <p:nvSpPr>
          <p:cNvPr id="49" name="WordArt 4"/>
          <p:cNvSpPr txBox="1"/>
          <p:nvPr/>
        </p:nvSpPr>
        <p:spPr>
          <a:xfrm>
            <a:off x="2895480" y="762120"/>
            <a:ext cx="381024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63504" dir="3183908" blurRad="0" rotWithShape="0">
                    <a:srgbClr val="ff9900"/>
                  </a:outerShdw>
                </a:effectLst>
                <a:latin typeface="Comic Sans MS"/>
              </a:rPr>
              <a:t>The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63504" dir="3183908" blurRad="0" rotWithShape="0">
                  <a:srgbClr val="ff9900"/>
                </a:outerShdw>
              </a:effectLst>
              <a:latin typeface="Comic Sans MS"/>
              <a:ea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63504" dir="3183908" blurRad="0" rotWithShape="0">
                    <a:srgbClr val="ff9900"/>
                  </a:outerShdw>
                </a:effectLst>
                <a:latin typeface="Comic Sans MS"/>
              </a:rPr>
              <a:t>Geography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63504" dir="3183908" blurRad="0" rotWithShape="0">
                  <a:srgbClr val="ff9900"/>
                </a:outerShdw>
              </a:effectLst>
              <a:latin typeface="Comic Sans MS"/>
              <a:ea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63504" dir="3183908" blurRad="0" rotWithShape="0">
                    <a:srgbClr val="ff9900"/>
                  </a:outerShdw>
                </a:effectLst>
                <a:latin typeface="Comic Sans MS"/>
              </a:rPr>
              <a:t>of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63504" dir="3183908" blurRad="0" rotWithShape="0">
                  <a:srgbClr val="ff9900"/>
                </a:outerShdw>
              </a:effectLst>
              <a:latin typeface="Comic Sans MS"/>
              <a:ea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63504" dir="3183908" blurRad="0" rotWithShape="0">
                    <a:srgbClr val="ff9900"/>
                  </a:outerShdw>
                </a:effectLst>
                <a:latin typeface="Comic Sans MS"/>
              </a:rPr>
              <a:t>Africa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63504" dir="3183908" blurRad="0" rotWithShape="0">
                  <a:srgbClr val="ff99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676520" y="5700600"/>
            <a:ext cx="624816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Mr. Clu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VMS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600200" y="15228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African Plate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map-Africa-Elevation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981080" y="990720"/>
            <a:ext cx="52279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3124080" y="152280"/>
            <a:ext cx="5583240" cy="65534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380880" y="1521000"/>
            <a:ext cx="2438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ese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5181480" y="1752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114800" y="20574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 rot="20568000">
            <a:off x="5943600" y="548604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 rot="4180200">
            <a:off x="5050800" y="50054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5181480" y="1219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295280" y="1522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Sahara Des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Sahara2"/>
          <p:cNvPicPr/>
          <p:nvPr/>
        </p:nvPicPr>
        <p:blipFill>
          <a:blip r:embed="rId1"/>
          <a:stretch/>
        </p:blipFill>
        <p:spPr>
          <a:xfrm>
            <a:off x="380880" y="4495680"/>
            <a:ext cx="3124440" cy="2019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dsertmap"/>
          <p:cNvPicPr/>
          <p:nvPr/>
        </p:nvPicPr>
        <p:blipFill>
          <a:blip r:embed="rId2"/>
          <a:stretch/>
        </p:blipFill>
        <p:spPr>
          <a:xfrm>
            <a:off x="1600200" y="990720"/>
            <a:ext cx="6076800" cy="3533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Sahara9"/>
          <p:cNvPicPr/>
          <p:nvPr/>
        </p:nvPicPr>
        <p:blipFill>
          <a:blip r:embed="rId3"/>
          <a:stretch/>
        </p:blipFill>
        <p:spPr>
          <a:xfrm>
            <a:off x="4876920" y="4273560"/>
            <a:ext cx="399888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219320" y="38088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Deser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Sahara Desertification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905120" y="1981080"/>
            <a:ext cx="5257800" cy="36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295280" y="22860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Sah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Sahel land"/>
          <p:cNvPicPr/>
          <p:nvPr/>
        </p:nvPicPr>
        <p:blipFill>
          <a:blip r:embed="rId1"/>
          <a:stretch/>
        </p:blipFill>
        <p:spPr>
          <a:xfrm>
            <a:off x="4648320" y="3124080"/>
            <a:ext cx="4190760" cy="3381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map-Africa-Sahel"/>
          <p:cNvPicPr/>
          <p:nvPr/>
        </p:nvPicPr>
        <p:blipFill>
          <a:blip r:embed="rId2"/>
          <a:stretch/>
        </p:blipFill>
        <p:spPr>
          <a:xfrm>
            <a:off x="762120" y="1219320"/>
            <a:ext cx="3603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3124080" y="152280"/>
            <a:ext cx="5583240" cy="65534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380880" y="1521000"/>
            <a:ext cx="2438640" cy="231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Comic Sans MS"/>
              </a:rPr>
              <a:t>Valle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Comic Sans MS"/>
              </a:rPr>
              <a:t>&am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Comic Sans MS"/>
              </a:rPr>
              <a:t>Pl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 rot="16869600">
            <a:off x="6683760" y="3099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3429000" y="152280"/>
            <a:ext cx="541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Great Rift Vall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Great Rift Valley-1"/>
          <p:cNvPicPr/>
          <p:nvPr/>
        </p:nvPicPr>
        <p:blipFill>
          <a:blip r:embed="rId1">
            <a:lum contrast="12000"/>
          </a:blip>
          <a:srcRect l="0" t="3395" r="2204" b="6033"/>
          <a:stretch/>
        </p:blipFill>
        <p:spPr>
          <a:xfrm>
            <a:off x="3886200" y="4343400"/>
            <a:ext cx="4648320" cy="2286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map-Africa-Great Rift Valley"/>
          <p:cNvPicPr/>
          <p:nvPr/>
        </p:nvPicPr>
        <p:blipFill>
          <a:blip r:embed="rId2"/>
          <a:stretch/>
        </p:blipFill>
        <p:spPr>
          <a:xfrm>
            <a:off x="520560" y="457200"/>
            <a:ext cx="2679840" cy="6172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Great Rift Valley-3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4648320" y="1065240"/>
            <a:ext cx="3047760" cy="2363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8"/>
          <p:cNvSpPr/>
          <p:nvPr/>
        </p:nvSpPr>
        <p:spPr>
          <a:xfrm>
            <a:off x="3886200" y="3657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mic Sans MS"/>
              </a:rPr>
              <a:t>3,000 miles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838080" y="3049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Seismic Activity in 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map-Africa-Seismic Hazards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057400" y="1143000"/>
            <a:ext cx="4795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3124080" y="152280"/>
            <a:ext cx="5583240" cy="65534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380880" y="1521000"/>
            <a:ext cx="243864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Comic Sans MS"/>
              </a:rPr>
              <a:t>Africa: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9900ff"/>
                </a:solidFill>
                <a:latin typeface="Comic Sans MS"/>
              </a:rPr>
              <a:t>The</a:t>
            </a:r>
            <a:br>
              <a:rPr sz="3600"/>
            </a:br>
            <a:r>
              <a:rPr b="1" lang="en-US" sz="3600" spc="-1" strike="noStrike">
                <a:solidFill>
                  <a:srgbClr val="9900ff"/>
                </a:solidFill>
                <a:latin typeface="Comic Sans MS"/>
              </a:rPr>
              <a:t>“Tropical”</a:t>
            </a:r>
            <a:br>
              <a:rPr sz="3600"/>
            </a:br>
            <a:r>
              <a:rPr b="1" lang="en-US" sz="3600" spc="-1" strike="noStrike">
                <a:solidFill>
                  <a:srgbClr val="9900ff"/>
                </a:solidFill>
                <a:latin typeface="Comic Sans MS"/>
              </a:rPr>
              <a:t>Contin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3124080" y="14479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Tropic of Cancer 2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200400" y="541008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2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>
            <a:off x="4572000" y="1676520"/>
            <a:ext cx="41148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4800600" y="5592600"/>
            <a:ext cx="38862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2971800" y="34592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Equator 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1"/>
          <p:cNvSpPr/>
          <p:nvPr/>
        </p:nvSpPr>
        <p:spPr>
          <a:xfrm>
            <a:off x="4267080" y="3581280"/>
            <a:ext cx="43434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295280" y="3808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African Trade Wi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map-Africa-Linking WInd-Precipitation-Vegetation"/>
          <p:cNvPicPr/>
          <p:nvPr/>
        </p:nvPicPr>
        <p:blipFill>
          <a:blip r:embed="rId1"/>
          <a:stretch/>
        </p:blipFill>
        <p:spPr>
          <a:xfrm>
            <a:off x="762120" y="1447920"/>
            <a:ext cx="782460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8"/>
          <p:cNvSpPr/>
          <p:nvPr/>
        </p:nvSpPr>
        <p:spPr>
          <a:xfrm>
            <a:off x="2057400" y="15228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A Satellite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0" descr="map-Africa-Satellite view"/>
          <p:cNvPicPr/>
          <p:nvPr/>
        </p:nvPicPr>
        <p:blipFill>
          <a:blip r:embed="rId1">
            <a:lum contrast="6000"/>
          </a:blip>
          <a:srcRect l="0" t="0" r="0" b="14457"/>
          <a:stretch/>
        </p:blipFill>
        <p:spPr>
          <a:xfrm>
            <a:off x="1752480" y="1066680"/>
            <a:ext cx="57150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295280" y="380880"/>
            <a:ext cx="67820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West Africa: </a:t>
            </a:r>
            <a:br>
              <a:rPr sz="4400"/>
            </a:b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Home of our Hurrica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African hurricanes"/>
          <p:cNvPicPr/>
          <p:nvPr/>
        </p:nvPicPr>
        <p:blipFill>
          <a:blip r:embed="rId1"/>
          <a:stretch/>
        </p:blipFill>
        <p:spPr>
          <a:xfrm>
            <a:off x="1523880" y="1905120"/>
            <a:ext cx="6172200" cy="4690800"/>
          </a:xfrm>
          <a:prstGeom prst="rect">
            <a:avLst/>
          </a:prstGeom>
          <a:ln w="0">
            <a:noFill/>
          </a:ln>
        </p:spPr>
      </p:pic>
      <p:sp>
        <p:nvSpPr>
          <p:cNvPr id="140" name="Oval 5"/>
          <p:cNvSpPr/>
          <p:nvPr/>
        </p:nvSpPr>
        <p:spPr>
          <a:xfrm>
            <a:off x="1219320" y="4038480"/>
            <a:ext cx="4572000" cy="2590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1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7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295280" y="22860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Vegetation Z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map-Africa-vegetation zones"/>
          <p:cNvPicPr/>
          <p:nvPr/>
        </p:nvPicPr>
        <p:blipFill>
          <a:blip r:embed="rId1"/>
          <a:stretch/>
        </p:blipFill>
        <p:spPr>
          <a:xfrm>
            <a:off x="2689200" y="1143000"/>
            <a:ext cx="4092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8" descr="savannah"/>
          <p:cNvPicPr/>
          <p:nvPr/>
        </p:nvPicPr>
        <p:blipFill>
          <a:blip r:embed="rId1"/>
          <a:stretch/>
        </p:blipFill>
        <p:spPr>
          <a:xfrm>
            <a:off x="762120" y="1962000"/>
            <a:ext cx="4952880" cy="23814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2"/>
          <p:cNvSpPr/>
          <p:nvPr/>
        </p:nvSpPr>
        <p:spPr>
          <a:xfrm>
            <a:off x="1295280" y="380880"/>
            <a:ext cx="67820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African Savannah:</a:t>
            </a:r>
            <a:br>
              <a:rPr sz="4400"/>
            </a:br>
            <a:r>
              <a:rPr b="1" lang="en-US" sz="3200" spc="-1" strike="noStrike">
                <a:solidFill>
                  <a:srgbClr val="ccff99"/>
                </a:solidFill>
                <a:latin typeface="Comic Sans MS"/>
              </a:rPr>
              <a:t>13 million sq. 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savannah-1"/>
          <p:cNvPicPr/>
          <p:nvPr/>
        </p:nvPicPr>
        <p:blipFill>
          <a:blip r:embed="rId2"/>
          <a:srcRect l="0" t="0" r="0" b="5200"/>
          <a:stretch/>
        </p:blipFill>
        <p:spPr>
          <a:xfrm>
            <a:off x="3809880" y="3914640"/>
            <a:ext cx="496260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295280" y="22860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African Rain Fo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African rain forest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57200" y="1066680"/>
            <a:ext cx="3686040" cy="243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8" name="Picture 4" descr="map-African rain forest"/>
          <p:cNvPicPr/>
          <p:nvPr/>
        </p:nvPicPr>
        <p:blipFill>
          <a:blip r:embed="rId2"/>
          <a:stretch/>
        </p:blipFill>
        <p:spPr>
          <a:xfrm>
            <a:off x="5029200" y="1066680"/>
            <a:ext cx="336384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gremlin-twins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304920" y="4495680"/>
            <a:ext cx="2819160" cy="18622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3200400" y="4572000"/>
            <a:ext cx="6172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Annual rainfall of up to 17 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Rapid decomposition (very humi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vers 37 cou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15% of the land surface of Af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birdfly"/>
          <p:cNvPicPr/>
          <p:nvPr/>
        </p:nvPicPr>
        <p:blipFill>
          <a:blip r:embed="rId4"/>
          <a:stretch/>
        </p:blipFill>
        <p:spPr>
          <a:xfrm>
            <a:off x="304920" y="3666960"/>
            <a:ext cx="41148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1295280" y="380880"/>
            <a:ext cx="678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Mt. Kilimanjaro:</a:t>
            </a:r>
            <a:br>
              <a:rPr sz="4400"/>
            </a:b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Snow on the Equator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Kilimanjaro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371600" y="2019240"/>
            <a:ext cx="655308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3255840" y="228600"/>
            <a:ext cx="5583240" cy="65530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228600" y="1447920"/>
            <a:ext cx="2819520" cy="452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Comple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Topogra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AF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6705720" y="220968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Nile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 rot="19643400">
            <a:off x="5639040" y="353484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6248520" y="47242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 rot="1362000">
            <a:off x="4190760" y="25146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Niger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5867280" y="56386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Orange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6400800" y="53341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impopo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5486400" y="609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3809880" y="44956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7315200" y="62485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7848720" y="403848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Indian </a:t>
            </a:r>
            <a:br>
              <a:rPr sz="1200"/>
            </a:b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4"/>
          <p:cNvSpPr/>
          <p:nvPr/>
        </p:nvSpPr>
        <p:spPr>
          <a:xfrm rot="2805000">
            <a:off x="6932520" y="1905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6095880" y="3657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6324480" y="32306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5029200" y="2514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8"/>
          <p:cNvSpPr/>
          <p:nvPr/>
        </p:nvSpPr>
        <p:spPr>
          <a:xfrm>
            <a:off x="5791320" y="4038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9"/>
          <p:cNvSpPr/>
          <p:nvPr/>
        </p:nvSpPr>
        <p:spPr>
          <a:xfrm rot="4012200">
            <a:off x="7671960" y="30243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0"/>
          <p:cNvSpPr/>
          <p:nvPr/>
        </p:nvSpPr>
        <p:spPr>
          <a:xfrm>
            <a:off x="8077320" y="6477120"/>
            <a:ext cx="380880" cy="15228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1"/>
          <p:cNvSpPr/>
          <p:nvPr/>
        </p:nvSpPr>
        <p:spPr>
          <a:xfrm rot="19927200">
            <a:off x="5943960" y="58669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2"/>
          <p:cNvSpPr/>
          <p:nvPr/>
        </p:nvSpPr>
        <p:spPr>
          <a:xfrm rot="3720600">
            <a:off x="6833880" y="43196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3"/>
          <p:cNvSpPr/>
          <p:nvPr/>
        </p:nvSpPr>
        <p:spPr>
          <a:xfrm>
            <a:off x="7010280" y="3429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4"/>
          <p:cNvSpPr/>
          <p:nvPr/>
        </p:nvSpPr>
        <p:spPr>
          <a:xfrm>
            <a:off x="7315200" y="37339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5"/>
          <p:cNvSpPr/>
          <p:nvPr/>
        </p:nvSpPr>
        <p:spPr>
          <a:xfrm>
            <a:off x="5257800" y="1905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6"/>
          <p:cNvSpPr/>
          <p:nvPr/>
        </p:nvSpPr>
        <p:spPr>
          <a:xfrm>
            <a:off x="4267080" y="22096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7"/>
          <p:cNvSpPr/>
          <p:nvPr/>
        </p:nvSpPr>
        <p:spPr>
          <a:xfrm rot="20568000">
            <a:off x="6019920" y="51811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8"/>
          <p:cNvSpPr/>
          <p:nvPr/>
        </p:nvSpPr>
        <p:spPr>
          <a:xfrm rot="4180200">
            <a:off x="5157000" y="50054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9"/>
          <p:cNvSpPr/>
          <p:nvPr/>
        </p:nvSpPr>
        <p:spPr>
          <a:xfrm>
            <a:off x="5410080" y="12952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0"/>
          <p:cNvSpPr/>
          <p:nvPr/>
        </p:nvSpPr>
        <p:spPr>
          <a:xfrm rot="16869600">
            <a:off x="6805800" y="2871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7"/>
          <p:cNvSpPr/>
          <p:nvPr/>
        </p:nvSpPr>
        <p:spPr>
          <a:xfrm rot="19927200">
            <a:off x="3734280" y="6854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8"/>
          <p:cNvSpPr/>
          <p:nvPr/>
        </p:nvSpPr>
        <p:spPr>
          <a:xfrm>
            <a:off x="3124080" y="14479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Tropic of Cancer 2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9"/>
          <p:cNvSpPr/>
          <p:nvPr/>
        </p:nvSpPr>
        <p:spPr>
          <a:xfrm>
            <a:off x="3200400" y="541008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2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0"/>
          <p:cNvSpPr/>
          <p:nvPr/>
        </p:nvSpPr>
        <p:spPr>
          <a:xfrm>
            <a:off x="4572000" y="1676520"/>
            <a:ext cx="41148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41"/>
          <p:cNvSpPr/>
          <p:nvPr/>
        </p:nvSpPr>
        <p:spPr>
          <a:xfrm>
            <a:off x="4800600" y="5592600"/>
            <a:ext cx="38862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2"/>
          <p:cNvSpPr/>
          <p:nvPr/>
        </p:nvSpPr>
        <p:spPr>
          <a:xfrm>
            <a:off x="2971800" y="34592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Equator 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43"/>
          <p:cNvSpPr/>
          <p:nvPr/>
        </p:nvSpPr>
        <p:spPr>
          <a:xfrm>
            <a:off x="4267080" y="3581280"/>
            <a:ext cx="43434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1295280" y="1522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Natural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map-Africa-Natural Resources"/>
          <p:cNvPicPr/>
          <p:nvPr/>
        </p:nvPicPr>
        <p:blipFill>
          <a:blip r:embed="rId1"/>
          <a:stretch/>
        </p:blipFill>
        <p:spPr>
          <a:xfrm>
            <a:off x="2354400" y="990720"/>
            <a:ext cx="47322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map-Africa in size relationship to other countries"/>
          <p:cNvPicPr/>
          <p:nvPr/>
        </p:nvPicPr>
        <p:blipFill>
          <a:blip r:embed="rId1"/>
          <a:stretch/>
        </p:blipFill>
        <p:spPr>
          <a:xfrm>
            <a:off x="3276720" y="1676520"/>
            <a:ext cx="2624040" cy="2895480"/>
          </a:xfrm>
          <a:prstGeom prst="rect">
            <a:avLst/>
          </a:prstGeom>
          <a:ln w="9360">
            <a:solidFill>
              <a:srgbClr val="ff9966"/>
            </a:solidFill>
            <a:miter/>
          </a:ln>
        </p:spPr>
      </p:pic>
      <p:sp>
        <p:nvSpPr>
          <p:cNvPr id="54" name="Text Box 6"/>
          <p:cNvSpPr/>
          <p:nvPr/>
        </p:nvSpPr>
        <p:spPr>
          <a:xfrm>
            <a:off x="2057400" y="28908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Africa’s S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838080" y="502920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Second largest continent </a:t>
            </a: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11,700,000 sq. 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10% of the world’s po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2 ½ times the size of the U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438280" y="1600200"/>
            <a:ext cx="4572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2666880" y="457200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 flipV="1">
            <a:off x="2666880" y="129492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3505320" y="1143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 6 0 0    M I L 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"/>
          <p:cNvSpPr/>
          <p:nvPr/>
        </p:nvSpPr>
        <p:spPr>
          <a:xfrm>
            <a:off x="5715000" y="129528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4"/>
          <p:cNvSpPr/>
          <p:nvPr/>
        </p:nvSpPr>
        <p:spPr>
          <a:xfrm flipH="1">
            <a:off x="3124080" y="129528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027240" y="228600"/>
            <a:ext cx="5583240" cy="6553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304920" y="1596960"/>
            <a:ext cx="2438280" cy="231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Bod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6477120" y="220968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Nile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 rot="19643400">
            <a:off x="5486760" y="34588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6019920" y="47242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 rot="1362000">
            <a:off x="3962160" y="25146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Niger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638680" y="56386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Orange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6172200" y="53341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impopo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5257800" y="5634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3581280" y="44956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7086600" y="62485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7467480" y="4038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Indian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 rot="2805000">
            <a:off x="6703920" y="1905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6400800" y="3657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6095880" y="32767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4800600" y="2514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5562720" y="4038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 rot="4012200">
            <a:off x="7443360" y="30243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0"/>
          <p:cNvSpPr/>
          <p:nvPr/>
        </p:nvSpPr>
        <p:spPr>
          <a:xfrm>
            <a:off x="7848720" y="6477120"/>
            <a:ext cx="380880" cy="152280"/>
          </a:xfrm>
          <a:prstGeom prst="line">
            <a:avLst/>
          </a:prstGeom>
          <a:ln w="93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219320" y="380880"/>
            <a:ext cx="67816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Mighty Nile River:</a:t>
            </a:r>
            <a:br>
              <a:rPr sz="4400"/>
            </a:b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“Longest River in the Worl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The Mighty Nile"/>
          <p:cNvPicPr/>
          <p:nvPr/>
        </p:nvPicPr>
        <p:blipFill>
          <a:blip r:embed="rId1"/>
          <a:srcRect l="0" t="8033" r="0" b="0"/>
          <a:stretch/>
        </p:blipFill>
        <p:spPr>
          <a:xfrm>
            <a:off x="1905120" y="1905120"/>
            <a:ext cx="5443560" cy="436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3" name="Rectangle 7"/>
          <p:cNvSpPr/>
          <p:nvPr/>
        </p:nvSpPr>
        <p:spPr>
          <a:xfrm>
            <a:off x="6019920" y="3124080"/>
            <a:ext cx="99036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8"/>
          <p:cNvSpPr/>
          <p:nvPr/>
        </p:nvSpPr>
        <p:spPr>
          <a:xfrm flipH="1" flipV="1">
            <a:off x="3276360" y="2819520"/>
            <a:ext cx="533160" cy="2286000"/>
          </a:xfrm>
          <a:prstGeom prst="line">
            <a:avLst/>
          </a:prstGeom>
          <a:ln w="507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371600" y="3808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Congo River Bas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map-Congo River Basin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80880" y="1523880"/>
            <a:ext cx="4800600" cy="4618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5410080" y="2057400"/>
            <a:ext cx="35816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vers 12% of the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ntin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Extends over 9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u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2,720 miles l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99% of the country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of Zaire is in the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ngo River bas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371600" y="3808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Niger River Bas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209680" y="5105520"/>
            <a:ext cx="5181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vers 7.5% of the contin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Extends over 10 cou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2,600 miles l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map-Niger River Basin"/>
          <p:cNvPicPr/>
          <p:nvPr/>
        </p:nvPicPr>
        <p:blipFill>
          <a:blip r:embed="rId1"/>
          <a:stretch/>
        </p:blipFill>
        <p:spPr>
          <a:xfrm>
            <a:off x="1828800" y="1447920"/>
            <a:ext cx="571500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600200" y="30492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Hydroelectric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map-Africa-Major African Dams"/>
          <p:cNvPicPr/>
          <p:nvPr/>
        </p:nvPicPr>
        <p:blipFill>
          <a:blip r:embed="rId1"/>
          <a:stretch/>
        </p:blipFill>
        <p:spPr>
          <a:xfrm>
            <a:off x="1162080" y="1306440"/>
            <a:ext cx="699120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3124080" y="152280"/>
            <a:ext cx="5583240" cy="65534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 rot="19018800">
            <a:off x="6020640" y="57142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 rot="2868600">
            <a:off x="6651360" y="40914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6934320" y="33526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7162920" y="3657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80880" y="1521000"/>
            <a:ext cx="2438640" cy="286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ount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ea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 rot="19927200">
            <a:off x="3734280" y="6854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5:46:07Z</dcterms:created>
  <dc:creator>supojer; Mr. Clutter</dc:creator>
  <dc:description/>
  <dc:language>en-US</dc:language>
  <cp:lastModifiedBy>RomaK</cp:lastModifiedBy>
  <dcterms:modified xsi:type="dcterms:W3CDTF">2015-09-04T09:39:50Z</dcterms:modified>
  <cp:revision>83</cp:revision>
  <dc:subject/>
  <dc:title>Geography of Africa</dc:title>
</cp:coreProperties>
</file>